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BCB-0BE6-4E0E-B8F5-36E342B9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7A2-16A0-44BE-93AA-F03FCC98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B32-2CAB-4770-A939-0FAB448B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3AF-D816-4D98-BD32-20214E39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3821-50D0-4500-B15F-FDE71A3A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028E-6F74-4D82-BA75-E281664D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42C0-04CD-4FBF-BC31-B1EA66D9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766E-6090-4A90-8392-BFD468E6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16E7-568A-480E-B0E5-6219C5EB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87BE-3495-4CA8-88EE-7E6ACCBF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C123-721D-4764-B6BA-DC42CC48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2BD-2A12-40D3-9AA7-59C6C4B1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2D65-8DD1-4D62-A7F4-1AB6488E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41B4-C91F-4155-949D-4C3E54F4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8883-CADB-4BF0-8754-34B2EFB0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4A14-5C6B-48E1-9914-2A7A2587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0B20-BA00-497E-8100-B30C1D16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7EA1-EF00-4304-A2E5-68DC6F6A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5C0E-30B3-4CE3-8934-4A9092B6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0163B-174B-4992-9040-BFB0637A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F3A2-8E4D-4952-B858-C5D320A8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53F81-92A9-4CCD-8964-26D87FAF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910-B91D-4741-8EAC-DE601B8B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662E9-AF73-4342-AADF-FF02B709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BE728-EF84-46DB-A2D2-0A2E182B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13809-D99A-41ED-A520-A2FF9547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DD761-51DF-40FA-B2B5-01A323D7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EBEC0-9CC4-43CC-A259-FAB77C6A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A5C41-0C9C-4F2F-907E-CD36DDA1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5F4D0-A59E-4201-B8CE-D0FA6FEF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55D10-024F-4EEE-AC32-186E3C35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D9C1E-AB42-4E14-B0CF-2E38CAB3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B7CDD-F3AB-42C5-8902-A1142AA0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955-D4E4-4260-AD81-5D7B1092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E0A6C-9638-4026-AF9E-020025DA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DE96F-9A8D-4FA0-86AF-565D4F9C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A8A63-5832-4575-B796-CFBCBBFE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15CEE-7F67-4A38-9B21-599D07D7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2BDD0-B5B2-4A43-85E8-23CDC953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7B7F5-249D-4AA4-9C09-47E62589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BE8C3-70D2-40A0-8B31-5AFEBD02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0F738-F013-4ED2-9908-CB961C8D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4B66F-823F-43AA-A0D5-BC44193F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68F-DC60-4A72-B545-5073DF37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C01-E821-4078-A4F2-2EA30FFF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819-D40E-4DA4-A2E0-04EF5BB5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C25-2624-4C80-9E61-D14EA7C9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243-F9C5-4114-859D-856A28A5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980D-9E5F-4A82-8B1E-73E2540D6E7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0A22-0F42-4B47-AA37-2813EB16E03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F458-7400-4B51-8D2D-7E55CE45865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46BA-3027-4657-BE71-A86C87D8050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: Josh Graff, Cooper Tollen and William Rayn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as Press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s pressure is a result of gas particles bouncing and hitting walls, or outer for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s pressure can only exist in closed contain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open containers, gas particles will esca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www.barometerplanet.com/wp-content/uploads/2009/09/merc_barometer.jpg"/>
          <p:cNvPicPr/>
          <p:nvPr/>
        </p:nvPicPr>
        <p:blipFill>
          <a:blip r:embed="rId1"/>
          <a:stretch/>
        </p:blipFill>
        <p:spPr>
          <a:xfrm>
            <a:off x="2438280" y="2144880"/>
            <a:ext cx="4419720" cy="43750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romet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ometer- instrument that measures atmospheric pres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MT and Distribution Cur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MT (Kinetic Molecular Theory)- states that as temperature increases, more energy will be released and particles move faster, generating a greater distribution of particle sp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posite applies for cooler temperatures as w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lvin Scale (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lvin- A unit of temperature measurement used in scientific studi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ote: Kelvin= Celsius +273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is used for temperature measurement because it is directly proportional to the average kinetic energy of the particles in a substan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6" descr="http://abyss.uoregon.edu/~js/images/celsius_kelvin.gif"/>
          <p:cNvPicPr/>
          <p:nvPr/>
        </p:nvPicPr>
        <p:blipFill>
          <a:blip r:embed="rId1"/>
          <a:stretch/>
        </p:blipFill>
        <p:spPr>
          <a:xfrm>
            <a:off x="5410080" y="1371600"/>
            <a:ext cx="312444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6:44:02Z</dcterms:created>
  <dc:creator>14jgraff</dc:creator>
  <dc:description/>
  <dc:language>en-US</dc:language>
  <cp:lastModifiedBy>14jgraff</cp:lastModifiedBy>
  <dcterms:modified xsi:type="dcterms:W3CDTF">2012-04-26T17:05:39Z</dcterms:modified>
  <cp:revision>3</cp:revision>
  <dc:subject/>
  <dc:title>Kinetic Energy and Gas Pressure</dc:title>
</cp:coreProperties>
</file>